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81D1-3375-4172-959F-ED5F5979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BA9B-9D30-43C8-AF38-9673E226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7FCE-D698-400D-BCB8-C8622C2D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FC5-54E5-408B-8303-31B793D5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AC03-F6D2-46B0-8026-C54E654B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4C76-E4EC-4AD6-96AD-3A482B0E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29A4-DA27-4423-8F81-2794C92B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25AB-2C5A-434D-B7C1-3CEBFFC0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B609-2167-4CCF-A054-CD3D8B97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222A-75F4-4EA2-AFDB-4F29A05D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6B43-C8B8-4A5B-9A1E-80CC81DD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99C-C52B-4DBF-85C1-24CF4D63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F245-7D4E-4CA7-B512-4D6EF168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5B11-CC16-412D-B116-3138D09D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5DE7-881F-4C5F-B15A-CD39566C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04E9-E75B-479B-9D6C-24759750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7A11-0F67-4D83-9EA4-CBD1DE75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C228-8FBB-476C-8BD3-2DEE16E7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F505-25C7-4777-AF4D-7AB03AC0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B79B-CE80-4A04-B8B0-21C10740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06C-600E-4C41-B4BE-F0E21213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586-66D2-4EA2-B66E-1B953456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729-39A2-415C-A091-164AB177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B66-AB08-4B59-BF3F-02AF5088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FBFD-AF1F-4505-8D4D-5095C0B338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0F33-8FDD-4F0A-87AA-9F85EF799C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slide" Target="slide5.xml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slide" Target="slide6.xml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image" Target="../media/image30.jpeg"/><Relationship Id="rId5" Type="http://schemas.openxmlformats.org/officeDocument/2006/relationships/slide" Target="slide3.xml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slide" Target="slide4.xml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jpeg"/><Relationship Id="rId3" Type="http://schemas.openxmlformats.org/officeDocument/2006/relationships/image" Target="../media/image29.jpeg"/><Relationship Id="rId4" Type="http://schemas.openxmlformats.org/officeDocument/2006/relationships/image" Target="../media/image25.jpeg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5.jpeg"/><Relationship Id="rId3" Type="http://schemas.openxmlformats.org/officeDocument/2006/relationships/slide" Target="slide6.xml"/><Relationship Id="rId4" Type="http://schemas.openxmlformats.org/officeDocument/2006/relationships/image" Target="../media/image29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slide" Target="slide7.xml"/><Relationship Id="rId4" Type="http://schemas.openxmlformats.org/officeDocument/2006/relationships/image" Target="../media/image25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4.jpeg"/><Relationship Id="rId6" Type="http://schemas.openxmlformats.org/officeDocument/2006/relationships/image" Target="../media/image9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4.xml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8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7.jpeg"/><Relationship Id="rId3" Type="http://schemas.openxmlformats.org/officeDocument/2006/relationships/image" Target="../media/image9.jpeg"/><Relationship Id="rId4" Type="http://schemas.openxmlformats.org/officeDocument/2006/relationships/image" Target="../media/image28.wmf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6.xml"/><Relationship Id="rId3" Type="http://schemas.openxmlformats.org/officeDocument/2006/relationships/image" Target="../media/image20.jpeg"/><Relationship Id="rId4" Type="http://schemas.openxmlformats.org/officeDocument/2006/relationships/image" Target="../media/image9.jpeg"/><Relationship Id="rId5" Type="http://schemas.openxmlformats.org/officeDocument/2006/relationships/image" Target="../media/image33.jpeg"/><Relationship Id="rId6" Type="http://schemas.openxmlformats.org/officeDocument/2006/relationships/image" Target="../media/image32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" Target="slide7.xml"/><Relationship Id="rId4" Type="http://schemas.openxmlformats.org/officeDocument/2006/relationships/image" Target="../media/image26.jpeg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27.jpeg"/><Relationship Id="rId6" Type="http://schemas.openxmlformats.org/officeDocument/2006/relationships/image" Target="../media/image10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slide" Target="slide4.xml"/><Relationship Id="rId5" Type="http://schemas.openxmlformats.org/officeDocument/2006/relationships/image" Target="../media/image10.png"/><Relationship Id="rId6" Type="http://schemas.openxmlformats.org/officeDocument/2006/relationships/image" Target="../media/image28.wmf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jpeg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image" Target="../media/image10.png"/><Relationship Id="rId5" Type="http://schemas.openxmlformats.org/officeDocument/2006/relationships/slide" Target="slide7.xml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volution.powernet.ru/library/evolcns.html" TargetMode="External"/><Relationship Id="rId2" Type="http://schemas.openxmlformats.org/officeDocument/2006/relationships/hyperlink" Target="http://evolution.powernet.ru/library/evolcns.html" TargetMode="External"/><Relationship Id="rId3" Type="http://schemas.openxmlformats.org/officeDocument/2006/relationships/hyperlink" Target="http://evolution.powernet.ru/library/evolcns.html" TargetMode="External"/><Relationship Id="rId4" Type="http://schemas.openxmlformats.org/officeDocument/2006/relationships/hyperlink" Target="http://evolution.powernet.ru/library/evolcns.html" TargetMode="External"/><Relationship Id="rId5" Type="http://schemas.openxmlformats.org/officeDocument/2006/relationships/hyperlink" Target="http://evolution.powernet.ru/library/evolcns.html" TargetMode="External"/><Relationship Id="rId6" Type="http://schemas.openxmlformats.org/officeDocument/2006/relationships/hyperlink" Target="http://evolution.powernet.ru/library/evolcns.html" TargetMode="External"/><Relationship Id="rId7" Type="http://schemas.openxmlformats.org/officeDocument/2006/relationships/hyperlink" Target="http://evolution.powernet.ru/library/evolcns.html" TargetMode="External"/><Relationship Id="rId8" Type="http://schemas.openxmlformats.org/officeDocument/2006/relationships/hyperlink" Target="http://www.totl1.com/page.php?p=70" TargetMode="External"/><Relationship Id="rId9" Type="http://schemas.openxmlformats.org/officeDocument/2006/relationships/hyperlink" Target="http://pixers.pl/obrazy-i-plakaty/green-poppie-and-cammomile-fields-10400188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23.xm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slide" Target="slide2.xml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0.xml"/><Relationship Id="rId3" Type="http://schemas.openxmlformats.org/officeDocument/2006/relationships/slide" Target="slide15.xml"/><Relationship Id="rId4" Type="http://schemas.openxmlformats.org/officeDocument/2006/relationships/slide" Target="slide25.xml"/><Relationship Id="rId5" Type="http://schemas.openxmlformats.org/officeDocument/2006/relationships/slide" Target="slide20.xml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1.xml"/><Relationship Id="rId3" Type="http://schemas.openxmlformats.org/officeDocument/2006/relationships/slide" Target="slide26.xml"/><Relationship Id="rId4" Type="http://schemas.openxmlformats.org/officeDocument/2006/relationships/slide" Target="slide16.xml"/><Relationship Id="rId5" Type="http://schemas.openxmlformats.org/officeDocument/2006/relationships/slide" Target="slide11.xml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" Target="slide2.xml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7.xml"/><Relationship Id="rId3" Type="http://schemas.openxmlformats.org/officeDocument/2006/relationships/slide" Target="slide22.xml"/><Relationship Id="rId4" Type="http://schemas.openxmlformats.org/officeDocument/2006/relationships/slide" Target="slide17.xml"/><Relationship Id="rId5" Type="http://schemas.openxmlformats.org/officeDocument/2006/relationships/slide" Target="slide12.xml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" Target="slide4.xml"/><Relationship Id="rId4" Type="http://schemas.openxmlformats.org/officeDocument/2006/relationships/image" Target="../media/image11.png"/><Relationship Id="rId5" Type="http://schemas.openxmlformats.org/officeDocument/2006/relationships/image" Target="../media/image19.png"/><Relationship Id="rId6" Type="http://schemas.openxmlformats.org/officeDocument/2006/relationships/image" Target="../media/image28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биолог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алковская И.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1752480"/>
            <a:ext cx="6248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нтерактивный тренажер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Сравни позвоночных"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1480" y="380880"/>
            <a:ext cx="84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ниципальное образовательное учреждение Петровская средня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образовательная школа Урюпинский район Волгоградская обла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781680" y="144792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533412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7086600" y="4087800"/>
            <a:ext cx="2684520" cy="2390760"/>
            <a:chOff x="7086600" y="4087800"/>
            <a:chExt cx="2684520" cy="2390760"/>
          </a:xfrm>
        </p:grpSpPr>
        <p:pic>
          <p:nvPicPr>
            <p:cNvPr id="218" name="" descr=""/>
            <p:cNvPicPr/>
            <p:nvPr/>
          </p:nvPicPr>
          <p:blipFill>
            <a:blip r:embed="rId7"/>
            <a:stretch/>
          </p:blipFill>
          <p:spPr>
            <a:xfrm>
              <a:off x="708660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rot="2000400">
              <a:off x="805644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5288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236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733920" y="1523880"/>
            <a:ext cx="3292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6477120" y="3552840"/>
            <a:ext cx="3457080" cy="3305160"/>
            <a:chOff x="6477120" y="3552840"/>
            <a:chExt cx="3457080" cy="3305160"/>
          </a:xfrm>
        </p:grpSpPr>
        <p:pic>
          <p:nvPicPr>
            <p:cNvPr id="245" name="" descr=""/>
            <p:cNvPicPr/>
            <p:nvPr/>
          </p:nvPicPr>
          <p:blipFill>
            <a:blip r:embed="rId7"/>
            <a:stretch/>
          </p:blipFill>
          <p:spPr>
            <a:xfrm>
              <a:off x="6477120" y="365904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rot="2000400">
              <a:off x="8219520" y="39603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48" name="" descr=""/>
            <p:cNvPicPr/>
            <p:nvPr/>
          </p:nvPicPr>
          <p:blipFill>
            <a:blip r:embed="rId8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251" name="" descr=""/>
            <p:cNvPicPr/>
            <p:nvPr/>
          </p:nvPicPr>
          <p:blipFill>
            <a:blip r:embed="rId9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019920" y="3170160"/>
            <a:ext cx="3457080" cy="3305160"/>
            <a:chOff x="6019920" y="3170160"/>
            <a:chExt cx="3457080" cy="3305160"/>
          </a:xfrm>
        </p:grpSpPr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6019920" y="3276720"/>
              <a:ext cx="259704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 rot="2000400">
              <a:off x="7762320" y="3578040"/>
              <a:ext cx="167616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52280" y="3505320"/>
            <a:ext cx="2857680" cy="2019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019920" y="274320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95480" y="4419720"/>
            <a:ext cx="3095640" cy="1666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3429000" y="144792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86600" y="4467240"/>
            <a:ext cx="2684520" cy="2390760"/>
            <a:chOff x="7086600" y="4467240"/>
            <a:chExt cx="2684520" cy="2390760"/>
          </a:xfrm>
        </p:grpSpPr>
        <p:pic>
          <p:nvPicPr>
            <p:cNvPr id="263" name="" descr=""/>
            <p:cNvPicPr/>
            <p:nvPr/>
          </p:nvPicPr>
          <p:blipFill>
            <a:blip r:embed="rId7"/>
            <a:stretch/>
          </p:blipFill>
          <p:spPr>
            <a:xfrm>
              <a:off x="708660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 rot="2000400">
              <a:off x="805644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6705720" y="4240080"/>
            <a:ext cx="2684520" cy="2390760"/>
            <a:chOff x="6705720" y="4240080"/>
            <a:chExt cx="2684520" cy="2390760"/>
          </a:xfrm>
        </p:grpSpPr>
        <p:pic>
          <p:nvPicPr>
            <p:cNvPr id="272" name="" descr=""/>
            <p:cNvPicPr/>
            <p:nvPr/>
          </p:nvPicPr>
          <p:blipFill>
            <a:blip r:embed="rId7"/>
            <a:stretch/>
          </p:blipFill>
          <p:spPr>
            <a:xfrm>
              <a:off x="670572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rot="2000400">
              <a:off x="767556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857680" cy="24861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6705720" y="4087800"/>
            <a:ext cx="2684520" cy="2390760"/>
            <a:chOff x="6705720" y="4087800"/>
            <a:chExt cx="2684520" cy="2390760"/>
          </a:xfrm>
        </p:grpSpPr>
        <p:pic>
          <p:nvPicPr>
            <p:cNvPr id="280" name="" descr=""/>
            <p:cNvPicPr/>
            <p:nvPr/>
          </p:nvPicPr>
          <p:blipFill>
            <a:blip r:embed="rId6"/>
            <a:stretch/>
          </p:blipFill>
          <p:spPr>
            <a:xfrm>
              <a:off x="670572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 rot="2000400">
              <a:off x="767556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2819520" y="4800600"/>
            <a:ext cx="3095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89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29718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6" name="" descr="">
            <a:hlinkClick r:id="rId4" action="ppaction://hlinksldjump"/>
          </p:cNvPr>
          <p:cNvPicPr/>
          <p:nvPr/>
        </p:nvPicPr>
        <p:blipFill>
          <a:blip r:embed="rId5"/>
          <a:srcRect l="0" t="3762" r="5885" b="0"/>
          <a:stretch/>
        </p:blipFill>
        <p:spPr>
          <a:xfrm>
            <a:off x="3733920" y="4495680"/>
            <a:ext cx="2438280" cy="194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6"/>
          <a:srcRect l="2862" t="6497" r="2862" b="2430"/>
          <a:stretch/>
        </p:blipFill>
        <p:spPr>
          <a:xfrm>
            <a:off x="6172200" y="1776240"/>
            <a:ext cx="2666880" cy="2262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298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99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019920" y="3322800"/>
            <a:ext cx="3457080" cy="3305160"/>
            <a:chOff x="6019920" y="3322800"/>
            <a:chExt cx="3457080" cy="3305160"/>
          </a:xfrm>
        </p:grpSpPr>
        <p:pic>
          <p:nvPicPr>
            <p:cNvPr id="302" name="" descr=""/>
            <p:cNvPicPr/>
            <p:nvPr/>
          </p:nvPicPr>
          <p:blipFill>
            <a:blip r:embed="rId8"/>
            <a:stretch/>
          </p:blipFill>
          <p:spPr>
            <a:xfrm>
              <a:off x="6019920" y="342900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2000400">
              <a:off x="7762320" y="3730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305" name="" descr=""/>
            <p:cNvPicPr/>
            <p:nvPr/>
          </p:nvPicPr>
          <p:blipFill>
            <a:blip r:embed="rId9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724360" y="3170160"/>
            <a:ext cx="3457800" cy="3305160"/>
            <a:chOff x="5724360" y="3170160"/>
            <a:chExt cx="3457800" cy="3305160"/>
          </a:xfrm>
        </p:grpSpPr>
        <p:pic>
          <p:nvPicPr>
            <p:cNvPr id="308" name="" descr=""/>
            <p:cNvPicPr/>
            <p:nvPr/>
          </p:nvPicPr>
          <p:blipFill>
            <a:blip r:embed="rId10"/>
            <a:stretch/>
          </p:blipFill>
          <p:spPr>
            <a:xfrm>
              <a:off x="572436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 rot="2000400">
              <a:off x="746712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228600" y="4343400"/>
            <a:ext cx="289548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4" name="" descr="">
            <a:hlinkClick r:id="rId4" action="ppaction://hlinksldjump"/>
          </p:cNvPr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752480"/>
            <a:ext cx="2514600" cy="2133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15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16" name="" descr=""/>
            <p:cNvPicPr/>
            <p:nvPr/>
          </p:nvPicPr>
          <p:blipFill>
            <a:blip r:embed="rId6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3352680" y="457200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ыбы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емноводные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смыкающиеся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тицы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лекопитающие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лесловие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305920" y="1905120"/>
            <a:ext cx="509400" cy="5331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160"/>
              <a:gd name="textAreaBottom" fmla="*/ 500400 h 533160"/>
            </a:gdLst>
            <a:ahLst/>
            <a:rect l="textAreaLeft" t="textAreaTop" r="textAreaRight" b="textAreaBottom"/>
            <a:pathLst>
              <a:path w="21600" h="22607">
                <a:moveTo>
                  <a:pt x="0" y="0"/>
                </a:moveTo>
                <a:lnTo>
                  <a:pt x="21600" y="0"/>
                </a:lnTo>
                <a:lnTo>
                  <a:pt x="21600" y="22607"/>
                </a:lnTo>
                <a:lnTo>
                  <a:pt x="0" y="22607"/>
                </a:lnTo>
                <a:close/>
              </a:path>
              <a:path fill="lightenLess" w="21600" h="22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7">
                <a:moveTo>
                  <a:pt x="21600" y="0"/>
                </a:moveTo>
                <a:lnTo>
                  <a:pt x="21600" y="22607"/>
                </a:lnTo>
                <a:lnTo>
                  <a:pt x="20200" y="21207"/>
                </a:lnTo>
                <a:lnTo>
                  <a:pt x="20200" y="1400"/>
                </a:lnTo>
                <a:close/>
              </a:path>
              <a:path fill="darkenLess" w="21600" h="22607">
                <a:moveTo>
                  <a:pt x="21600" y="22607"/>
                </a:moveTo>
                <a:lnTo>
                  <a:pt x="0" y="22607"/>
                </a:lnTo>
                <a:lnTo>
                  <a:pt x="1400" y="21207"/>
                </a:lnTo>
                <a:lnTo>
                  <a:pt x="20200" y="21207"/>
                </a:lnTo>
                <a:close/>
              </a:path>
              <a:path fill="lighten" w="21600" h="22607">
                <a:moveTo>
                  <a:pt x="0" y="22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7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8305920" y="2590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305920" y="3200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8305920" y="3886200"/>
            <a:ext cx="533160" cy="433440"/>
          </a:xfrm>
          <a:custGeom>
            <a:avLst/>
            <a:gdLst>
              <a:gd name="textAreaLeft" fmla="*/ 28080 w 533160"/>
              <a:gd name="textAreaRight" fmla="*/ 505080 w 5331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8305920" y="4419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8305920" y="5105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0" name="" descr="">
            <a:hlinkClick r:id="rId1" action="ppaction://hlinksldjump"/>
          </p:cNvPr>
          <p:cNvPicPr/>
          <p:nvPr/>
        </p:nvPicPr>
        <p:blipFill>
          <a:blip r:embed="rId2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3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22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23" name="" descr=""/>
            <p:cNvPicPr/>
            <p:nvPr/>
          </p:nvPicPr>
          <p:blipFill>
            <a:blip r:embed="rId4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1" name="" descr=""/>
          <p:cNvPicPr/>
          <p:nvPr/>
        </p:nvPicPr>
        <p:blipFill>
          <a:blip r:embed="rId4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35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0" name="" descr="">
            <a:hlinkClick r:id="rId3" action="ppaction://hlinksldjump"/>
          </p:cNvPr>
          <p:cNvPicPr/>
          <p:nvPr/>
        </p:nvPicPr>
        <p:blipFill>
          <a:blip r:embed="rId4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42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3581280" y="464832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9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5"/>
          <a:srcRect l="0" t="23601" r="64005" b="33199"/>
          <a:stretch/>
        </p:blipFill>
        <p:spPr>
          <a:xfrm>
            <a:off x="6400800" y="1523880"/>
            <a:ext cx="2514600" cy="25146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51" name="" descr=""/>
          <p:cNvPicPr/>
          <p:nvPr/>
        </p:nvPicPr>
        <p:blipFill>
          <a:blip r:embed="rId6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52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353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095880" y="3170160"/>
            <a:ext cx="3457800" cy="3305160"/>
            <a:chOff x="6095880" y="3170160"/>
            <a:chExt cx="3457800" cy="3305160"/>
          </a:xfrm>
        </p:grpSpPr>
        <p:pic>
          <p:nvPicPr>
            <p:cNvPr id="356" name="" descr=""/>
            <p:cNvPicPr/>
            <p:nvPr/>
          </p:nvPicPr>
          <p:blipFill>
            <a:blip r:embed="rId8"/>
            <a:stretch/>
          </p:blipFill>
          <p:spPr>
            <a:xfrm>
              <a:off x="609588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 rot="2000400">
              <a:off x="783864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629400" y="3322800"/>
            <a:ext cx="3457800" cy="3305160"/>
            <a:chOff x="6629400" y="3322800"/>
            <a:chExt cx="3457800" cy="3305160"/>
          </a:xfrm>
        </p:grpSpPr>
        <p:pic>
          <p:nvPicPr>
            <p:cNvPr id="359" name="" descr=""/>
            <p:cNvPicPr/>
            <p:nvPr/>
          </p:nvPicPr>
          <p:blipFill>
            <a:blip r:embed="rId9"/>
            <a:stretch/>
          </p:blipFill>
          <p:spPr>
            <a:xfrm>
              <a:off x="6629400" y="34290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 rot="2000400">
              <a:off x="8372160" y="37306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362" name="" descr=""/>
            <p:cNvPicPr/>
            <p:nvPr/>
          </p:nvPicPr>
          <p:blipFill>
            <a:blip r:embed="rId10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7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68" name="" descr="">
            <a:hlinkClick r:id="rId4" action="ppaction://hlinksldjump"/>
          </p:cNvPr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58128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69" name=""/>
          <p:cNvGrpSpPr/>
          <p:nvPr/>
        </p:nvGrpSpPr>
        <p:grpSpPr>
          <a:xfrm>
            <a:off x="6781680" y="4467240"/>
            <a:ext cx="2684520" cy="2390760"/>
            <a:chOff x="6781680" y="4467240"/>
            <a:chExt cx="2684520" cy="2390760"/>
          </a:xfrm>
        </p:grpSpPr>
        <p:pic>
          <p:nvPicPr>
            <p:cNvPr id="370" name="" descr=""/>
            <p:cNvPicPr/>
            <p:nvPr/>
          </p:nvPicPr>
          <p:blipFill>
            <a:blip r:embed="rId6"/>
            <a:stretch/>
          </p:blipFill>
          <p:spPr>
            <a:xfrm>
              <a:off x="678168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 rot="2000400">
              <a:off x="775152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804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000"/>
                            </p:stCondLst>
                            <p:childTnLst>
                              <p:par>
                                <p:cTn id="8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77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8" name="" descr=""/>
          <p:cNvPicPr/>
          <p:nvPr/>
        </p:nvPicPr>
        <p:blipFill>
          <a:blip r:embed="rId6"/>
          <a:stretch/>
        </p:blipFill>
        <p:spPr>
          <a:xfrm>
            <a:off x="6400800" y="1523880"/>
            <a:ext cx="2554200" cy="254808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6324480" y="4164120"/>
            <a:ext cx="2684880" cy="2390760"/>
            <a:chOff x="6324480" y="4164120"/>
            <a:chExt cx="2684880" cy="2390760"/>
          </a:xfrm>
        </p:grpSpPr>
        <p:pic>
          <p:nvPicPr>
            <p:cNvPr id="380" name="" descr=""/>
            <p:cNvPicPr/>
            <p:nvPr/>
          </p:nvPicPr>
          <p:blipFill>
            <a:blip r:embed="rId7"/>
            <a:stretch/>
          </p:blipFill>
          <p:spPr>
            <a:xfrm>
              <a:off x="63244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 rot="2000400">
              <a:off x="72946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875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5" name="" descr="">
            <a:hlinkClick r:id="rId3" action="ppaction://hlinksldjump"/>
          </p:cNvPr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86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89" name="" descr=""/>
            <p:cNvPicPr/>
            <p:nvPr/>
          </p:nvPicPr>
          <p:blipFill>
            <a:blip r:embed="rId7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16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3962520" y="4876920"/>
            <a:ext cx="4800600" cy="1280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95" name="" descr=""/>
          <p:cNvPicPr/>
          <p:nvPr/>
        </p:nvPicPr>
        <p:blipFill>
          <a:blip r:embed="rId4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6248520" y="3935520"/>
            <a:ext cx="2684880" cy="2390760"/>
            <a:chOff x="6248520" y="3935520"/>
            <a:chExt cx="2684880" cy="2390760"/>
          </a:xfrm>
        </p:grpSpPr>
        <p:pic>
          <p:nvPicPr>
            <p:cNvPr id="398" name="" descr=""/>
            <p:cNvPicPr/>
            <p:nvPr/>
          </p:nvPicPr>
          <p:blipFill>
            <a:blip r:embed="rId7"/>
            <a:stretch/>
          </p:blipFill>
          <p:spPr>
            <a:xfrm>
              <a:off x="6248520" y="42670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 rot="2000400">
              <a:off x="7218720" y="43430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228600" y="1295280"/>
            <a:ext cx="8458200" cy="5029200"/>
            <a:chOff x="228600" y="1295280"/>
            <a:chExt cx="8458200" cy="5029200"/>
          </a:xfrm>
        </p:grpSpPr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228600" y="2057400"/>
              <a:ext cx="346536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2286000" y="1295280"/>
              <a:ext cx="6400800" cy="1981440"/>
            </a:xfrm>
            <a:prstGeom prst="wedgeRectCallout">
              <a:avLst>
                <a:gd name="adj1" fmla="val -49652"/>
                <a:gd name="adj2" fmla="val 120833"/>
              </a:avLst>
            </a:prstGeom>
            <a:gradFill rotWithShape="0">
              <a:gsLst>
                <a:gs pos="0">
                  <a:srgbClr val="005e00"/>
                </a:gs>
                <a:gs pos="50000">
                  <a:srgbClr val="00cc00"/>
                </a:gs>
                <a:gs pos="100000">
                  <a:srgbClr val="00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2666880" y="1447920"/>
              <a:ext cx="5639040" cy="175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спасибо з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работу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Источники иллюстрац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http</a:t>
            </a: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://</a:t>
            </a: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bioturnir.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3"/>
              </a:rPr>
              <a:t>evolution.powernet.ru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5"/>
              </a:rPr>
              <a:t>library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6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7"/>
              </a:rPr>
              <a:t>evolcns.htm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8"/>
              </a:rPr>
              <a:t>http://www.totl1.com/page.php?p=7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9"/>
              </a:rPr>
              <a:t>http://pixers.pl/obrazy-i-plakaty/green-poppie-and-cammomile-fields-104001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Диск Виртуальная школа Кирилла и Мефодия. Уроки биологии Кирилла и Мефодия.Животные 7 клас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42080" y="259092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1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100760" y="419112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702600" y="68580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63480" y="259092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43400" y="1600200"/>
            <a:ext cx="76212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rcRect l="0" t="0" r="5885" b="0"/>
          <a:stretch/>
        </p:blipFill>
        <p:spPr>
          <a:xfrm>
            <a:off x="3581280" y="1447920"/>
            <a:ext cx="2438640" cy="2019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914400" y="3505320"/>
            <a:ext cx="76212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4952880"/>
            <a:ext cx="76176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3429000"/>
            <a:ext cx="83808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80880" y="3352680"/>
            <a:ext cx="2552760" cy="1702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8"/>
          <a:srcRect l="0" t="11425" r="0" b="0"/>
          <a:stretch/>
        </p:blipFill>
        <p:spPr>
          <a:xfrm>
            <a:off x="3200400" y="4800600"/>
            <a:ext cx="3368520" cy="1812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740640" y="3200400"/>
            <a:ext cx="2117520" cy="2743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27" name="">
            <a:hlinkClick r:id="rId10" action="ppaction://hlinksldjump"/>
          </p:cNvPr>
          <p:cNvSpPr/>
          <p:nvPr/>
        </p:nvSpPr>
        <p:spPr>
          <a:xfrm>
            <a:off x="8481960" y="63244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038480" y="16002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581280"/>
            <a:ext cx="76212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666120" y="205740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354996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7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>
            <a:hlinkClick r:id="rId8" action="ppaction://hlinksldjump"/>
          </p:cNvPr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9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3429000" y="1447920"/>
            <a:ext cx="2666880" cy="2342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11"/>
          <a:srcRect l="42375" t="26771" r="50393" b="66403"/>
          <a:stretch/>
        </p:blipFill>
        <p:spPr>
          <a:xfrm>
            <a:off x="609480" y="35812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sp>
        <p:nvSpPr>
          <p:cNvPr id="137" name="">
            <a:hlinkClick r:id="rId12" action="ppaction://hlinksldjump"/>
          </p:cNvPr>
          <p:cNvSpPr/>
          <p:nvPr/>
        </p:nvSpPr>
        <p:spPr>
          <a:xfrm>
            <a:off x="8405640" y="6272280"/>
            <a:ext cx="738360" cy="585720"/>
          </a:xfrm>
          <a:custGeom>
            <a:avLst/>
            <a:gdLst>
              <a:gd name="textAreaLeft" fmla="*/ 37800 w 738360"/>
              <a:gd name="textAreaRight" fmla="*/ 700560 w 738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7226" h="21600">
                <a:moveTo>
                  <a:pt x="0" y="0"/>
                </a:moveTo>
                <a:lnTo>
                  <a:pt x="27226" y="0"/>
                </a:lnTo>
                <a:lnTo>
                  <a:pt x="27226" y="21600"/>
                </a:lnTo>
                <a:lnTo>
                  <a:pt x="0" y="21600"/>
                </a:lnTo>
                <a:close/>
              </a:path>
              <a:path fill="lightenLess" w="27226" h="21600">
                <a:moveTo>
                  <a:pt x="0" y="0"/>
                </a:moveTo>
                <a:lnTo>
                  <a:pt x="27226" y="0"/>
                </a:lnTo>
                <a:lnTo>
                  <a:pt x="25826" y="1400"/>
                </a:lnTo>
                <a:lnTo>
                  <a:pt x="1400" y="1400"/>
                </a:lnTo>
                <a:close/>
              </a:path>
              <a:path fill="darken" w="27226" h="21600">
                <a:moveTo>
                  <a:pt x="27226" y="0"/>
                </a:moveTo>
                <a:lnTo>
                  <a:pt x="27226" y="21600"/>
                </a:lnTo>
                <a:lnTo>
                  <a:pt x="25826" y="20200"/>
                </a:lnTo>
                <a:lnTo>
                  <a:pt x="25826" y="1400"/>
                </a:lnTo>
                <a:close/>
              </a:path>
              <a:path fill="darkenLess" w="27226" h="21600">
                <a:moveTo>
                  <a:pt x="27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26" y="20200"/>
                </a:lnTo>
                <a:close/>
              </a:path>
              <a:path fill="lighten" w="27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26" h="21600">
                <a:moveTo>
                  <a:pt x="6606" y="10800"/>
                </a:moveTo>
                <a:lnTo>
                  <a:pt x="20619" y="3794"/>
                </a:lnTo>
                <a:lnTo>
                  <a:pt x="20619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5105520"/>
            <a:ext cx="83808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289548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6705720" y="274320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32004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62920" y="3657600"/>
            <a:ext cx="914400" cy="60948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5105520"/>
            <a:ext cx="83844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3962520"/>
            <a:ext cx="91440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1523880"/>
            <a:ext cx="914400" cy="60984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ПОЛОЗ ЖЕЛТОБРЮХИЙ"/>
          <p:cNvPicPr/>
          <p:nvPr/>
        </p:nvPicPr>
        <p:blipFill>
          <a:blip r:embed="rId1"/>
          <a:stretch/>
        </p:blipFill>
        <p:spPr>
          <a:xfrm>
            <a:off x="304920" y="457200"/>
            <a:ext cx="2514600" cy="166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37520" y="28954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6553080" y="3657600"/>
            <a:ext cx="2084400" cy="2822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2743200" y="48769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304920" y="3657600"/>
            <a:ext cx="2819160" cy="211464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3200400" y="1447920"/>
            <a:ext cx="2666880" cy="2514600"/>
          </a:xfrm>
          <a:prstGeom prst="rect">
            <a:avLst/>
          </a:prstGeom>
          <a:ln w="19080">
            <a:solidFill>
              <a:srgbClr val="ff822d"/>
            </a:solidFill>
            <a:miter/>
          </a:ln>
        </p:spPr>
      </p:pic>
      <p:sp>
        <p:nvSpPr>
          <p:cNvPr id="155" name="">
            <a:hlinkClick r:id="rId10" action="ppaction://hlinksldjump"/>
          </p:cNvPr>
          <p:cNvSpPr/>
          <p:nvPr/>
        </p:nvSpPr>
        <p:spPr>
          <a:xfrm>
            <a:off x="8481960" y="619596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62520" y="5105520"/>
            <a:ext cx="838080" cy="60948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42900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3581280"/>
            <a:ext cx="83808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1523880"/>
            <a:ext cx="91440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2819520" cy="1789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643560" y="40384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705720" y="3276720"/>
            <a:ext cx="1755720" cy="267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352680" y="1523880"/>
            <a:ext cx="243864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990720" y="3200400"/>
            <a:ext cx="928440" cy="34765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68" name="">
            <a:hlinkClick r:id="rId9" action="ppaction://hlinksldjump"/>
          </p:cNvPr>
          <p:cNvSpPr/>
          <p:nvPr/>
        </p:nvSpPr>
        <p:spPr>
          <a:xfrm>
            <a:off x="8558280" y="6348240"/>
            <a:ext cx="585720" cy="509760"/>
          </a:xfrm>
          <a:custGeom>
            <a:avLst/>
            <a:gdLst>
              <a:gd name="textAreaLeft" fmla="*/ 32760 w 585720"/>
              <a:gd name="textAreaRight" fmla="*/ 552960 w 5857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4816" h="21600">
                <a:moveTo>
                  <a:pt x="0" y="0"/>
                </a:moveTo>
                <a:lnTo>
                  <a:pt x="24816" y="0"/>
                </a:lnTo>
                <a:lnTo>
                  <a:pt x="24816" y="21600"/>
                </a:lnTo>
                <a:lnTo>
                  <a:pt x="0" y="21600"/>
                </a:lnTo>
                <a:close/>
              </a:path>
              <a:path fill="lightenLess" w="24816" h="21600">
                <a:moveTo>
                  <a:pt x="0" y="0"/>
                </a:moveTo>
                <a:lnTo>
                  <a:pt x="24816" y="0"/>
                </a:lnTo>
                <a:lnTo>
                  <a:pt x="23416" y="1400"/>
                </a:lnTo>
                <a:lnTo>
                  <a:pt x="1400" y="1400"/>
                </a:lnTo>
                <a:close/>
              </a:path>
              <a:path fill="darken" w="24816" h="21600">
                <a:moveTo>
                  <a:pt x="24816" y="0"/>
                </a:moveTo>
                <a:lnTo>
                  <a:pt x="24816" y="21600"/>
                </a:lnTo>
                <a:lnTo>
                  <a:pt x="23416" y="20200"/>
                </a:lnTo>
                <a:lnTo>
                  <a:pt x="23416" y="1400"/>
                </a:lnTo>
                <a:close/>
              </a:path>
              <a:path fill="darkenLess" w="24816" h="21600">
                <a:moveTo>
                  <a:pt x="24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6" y="20200"/>
                </a:lnTo>
                <a:close/>
              </a:path>
              <a:path fill="lighten" w="24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6" h="21600">
                <a:moveTo>
                  <a:pt x="5402" y="10800"/>
                </a:moveTo>
                <a:lnTo>
                  <a:pt x="19415" y="3794"/>
                </a:lnTo>
                <a:lnTo>
                  <a:pt x="19415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3124080" y="4648320"/>
            <a:ext cx="28576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010280" y="3276720"/>
            <a:ext cx="914400" cy="45720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45720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152388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505320"/>
            <a:ext cx="83844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362320" cy="1822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3643560" y="365760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6553080" y="32004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2971800" y="4371840"/>
            <a:ext cx="2857680" cy="2486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rcRect l="2498" t="3714" r="2498" b="3322"/>
          <a:stretch/>
        </p:blipFill>
        <p:spPr>
          <a:xfrm>
            <a:off x="2895480" y="15238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9"/>
          <a:srcRect l="0" t="23601" r="64005" b="33199"/>
          <a:stretch/>
        </p:blipFill>
        <p:spPr>
          <a:xfrm>
            <a:off x="228600" y="3276720"/>
            <a:ext cx="2514600" cy="2514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83" name="">
            <a:hlinkClick r:id="rId10" action="ppaction://hlinksldjump"/>
          </p:cNvPr>
          <p:cNvSpPr/>
          <p:nvPr/>
        </p:nvSpPr>
        <p:spPr>
          <a:xfrm>
            <a:off x="8558280" y="627228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191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48520" y="2789280"/>
            <a:ext cx="3457080" cy="3305160"/>
            <a:chOff x="6248520" y="2789280"/>
            <a:chExt cx="3457080" cy="330516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6248520" y="289548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000400">
              <a:off x="7990920" y="31968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943600" y="2712960"/>
            <a:ext cx="3457800" cy="3305160"/>
            <a:chOff x="5943600" y="2712960"/>
            <a:chExt cx="3457800" cy="3305160"/>
          </a:xfrm>
        </p:grpSpPr>
        <p:pic>
          <p:nvPicPr>
            <p:cNvPr id="197" name="" descr=""/>
            <p:cNvPicPr/>
            <p:nvPr/>
          </p:nvPicPr>
          <p:blipFill>
            <a:blip r:embed="rId9"/>
            <a:stretch/>
          </p:blipFill>
          <p:spPr>
            <a:xfrm>
              <a:off x="5943600" y="28195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2000400">
              <a:off x="7686360" y="31208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200" name="" descr=""/>
            <p:cNvPicPr/>
            <p:nvPr/>
          </p:nvPicPr>
          <p:blipFill>
            <a:blip r:embed="rId10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2000160" cy="2590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5480" y="13716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34320" y="144792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95288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7238880" y="4164120"/>
            <a:ext cx="2684880" cy="2390760"/>
            <a:chOff x="7238880" y="4164120"/>
            <a:chExt cx="2684880" cy="2390760"/>
          </a:xfrm>
        </p:grpSpPr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72388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2000400">
              <a:off x="82090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1447920" y="3733920"/>
            <a:ext cx="20844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4:49:44Z</dcterms:created>
  <dc:creator>Microsoft Corporation</dc:creator>
  <dc:description/>
  <dc:language>en-US</dc:language>
  <cp:lastModifiedBy>Василий</cp:lastModifiedBy>
  <dcterms:modified xsi:type="dcterms:W3CDTF">2011-07-28T16:57:01Z</dcterms:modified>
  <cp:revision>142</cp:revision>
  <dc:subject/>
  <dc:title>Citrus design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69000</vt:lpwstr>
  </property>
  <property fmtid="{D5CDD505-2E9C-101B-9397-08002B2CF9AE}" pid="7" name="AssetType">
    <vt:lpwstr>TP</vt:lpwstr>
  </property>
  <property fmtid="{D5CDD505-2E9C-101B-9397-08002B2CF9AE}" pid="8" name="AuthoringAssetId">
    <vt:lpwstr>TP00106900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0</vt:lpwstr>
  </property>
  <property fmtid="{D5CDD505-2E9C-101B-9397-08002B2CF9AE}" pid="15" name="IsSearchable">
    <vt:lpwstr>0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.00000000000000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Citrus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Citrus design template</vt:lpwstr>
  </property>
  <property fmtid="{D5CDD505-2E9C-101B-9397-08002B2CF9AE}" pid="33" name="TPInstallLocation">
    <vt:lpwstr>{Document Themes}</vt:lpwstr>
  </property>
  <property fmtid="{D5CDD505-2E9C-101B-9397-08002B2CF9AE}" pid="34" name="TPLaunchHelpLink">
    <vt:lpwstr/>
  </property>
  <property fmtid="{D5CDD505-2E9C-101B-9397-08002B2CF9AE}" pid="35" name="TPLaunchHelpLinkType">
    <vt:lpwstr>Template</vt:lpwstr>
  </property>
  <property fmtid="{D5CDD505-2E9C-101B-9397-08002B2CF9AE}" pid="36" name="TPNamespace">
    <vt:lpwstr>POWERPNT</vt:lpwstr>
  </property>
  <property fmtid="{D5CDD505-2E9C-101B-9397-08002B2CF9AE}" pid="37" name="TrustLevel">
    <vt:lpwstr>Microsoft Managed Content</vt:lpwstr>
  </property>
  <property fmtid="{D5CDD505-2E9C-101B-9397-08002B2CF9AE}" pid="38" name="UACurrentWords">
    <vt:lpwstr>0</vt:lpwstr>
  </property>
  <property fmtid="{D5CDD505-2E9C-101B-9397-08002B2CF9AE}" pid="39" name="UALocComments">
    <vt:lpwstr/>
  </property>
  <property fmtid="{D5CDD505-2E9C-101B-9397-08002B2CF9AE}" pid="40" name="UALocRecommendation">
    <vt:lpwstr>Localize</vt:lpwstr>
  </property>
  <property fmtid="{D5CDD505-2E9C-101B-9397-08002B2CF9AE}" pid="41" name="UANotes">
    <vt:lpwstr>LEGACY PPTDT. 421488L. June 2003 retrofit</vt:lpwstr>
  </property>
  <property fmtid="{D5CDD505-2E9C-101B-9397-08002B2CF9AE}" pid="42" name="Version">
    <vt:r8>1</vt:r8>
  </property>
  <property fmtid="{D5CDD505-2E9C-101B-9397-08002B2CF9AE}" pid="43" name="display_urn:schemas-microsoft-com:office:office#APAuthor">
    <vt:lpwstr>REDMOND\cynvey</vt:lpwstr>
  </property>
  <property fmtid="{D5CDD505-2E9C-101B-9397-08002B2CF9AE}" pid="44" name="display_urn:schemas-microsoft-com:office:office#APEditor">
    <vt:lpwstr>REDMOND\v-luannv</vt:lpwstr>
  </property>
</Properties>
</file>